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09EB-18F2-49BF-8B31-65EF4D4E3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BC16-3DB8-4AB2-82B7-2C4B1E1E31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4FA1-AF8B-4CF9-8B6C-0E9052AF8F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194-9F34-487E-A947-4B0AF01B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4D8-10A8-4F60-A2CA-A9C4433A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34B-4119-4344-AD06-F8AE4FCC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FEB-F253-4072-A5DB-FC8328AF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7E6-9D72-4986-83B1-A8333C78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467-71B2-49DE-AFC8-DCF49772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1E6-C960-4E6B-A527-87D25073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10B-DC8E-47BB-A843-1B490483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66E-E1CE-4817-966C-B6331418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577-2A5A-47A8-90A7-E1A09B4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E0D-B0E5-41D3-BAF3-AB120921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D6D-523C-4953-AB03-A872A519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F8CB-7D8D-49FD-BD05-E42EDA3B1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3429000"/>
            <a:ext cx="836784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d2d8a"/>
                </a:solidFill>
                <a:latin typeface="Arial"/>
              </a:rPr>
              <a:t>Управління  охорони  здоров’я  Херсонської  міської  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КЗ «ХЕРСОНСЬКА  МІСЬКА  </a:t>
            </a:r>
            <a:r>
              <a:rPr b="1" lang="uk-UA" sz="2400" spc="-1" strike="noStrike">
                <a:solidFill>
                  <a:srgbClr val="2d2d8a"/>
                </a:solidFill>
                <a:latin typeface="Arial"/>
              </a:rPr>
              <a:t>КЛІНІЧ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d2d8a"/>
                </a:solidFill>
                <a:latin typeface="Arial"/>
              </a:rPr>
              <a:t>ЛІКАРНЯ  ІМ.  А. і  О. ТРОПІНИХ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71640" y="4802040"/>
            <a:ext cx="7561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  <a:ea typeface="Arial"/>
              </a:rPr>
              <a:t>Медична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uk-UA" sz="4400" spc="-1" strike="noStrike">
                <a:solidFill>
                  <a:srgbClr val="ff3300"/>
                </a:solidFill>
                <a:latin typeface="Arial"/>
                <a:ea typeface="Arial"/>
              </a:rPr>
              <a:t>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1 березня 2016 ро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9640" y="1341360"/>
            <a:ext cx="799308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95400" indent="-954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6429240" y="357120"/>
            <a:ext cx="2239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Вартість 1 ліжко-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Диаграмма 5"/>
          <p:cNvGraphicFramePr/>
          <p:nvPr/>
        </p:nvGraphicFramePr>
        <p:xfrm>
          <a:off x="179280" y="1173240"/>
          <a:ext cx="8832960" cy="505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73240"/>
                    <a:ext cx="88329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Рисунок 2" descr=""/>
          <p:cNvPicPr/>
          <p:nvPr/>
        </p:nvPicPr>
        <p:blipFill>
          <a:blip r:embed="rId3"/>
          <a:stretch/>
        </p:blipFill>
        <p:spPr>
          <a:xfrm>
            <a:off x="250920" y="87480"/>
            <a:ext cx="1873080" cy="1110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Аналіз співпраці з  благодійним фондом "Медицина"                    за 2014 - 2015р., тис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97000" y="833400"/>
          <a:ext cx="8551800" cy="4780080"/>
        </p:xfrm>
        <a:graphic>
          <a:graphicData uri="http://schemas.openxmlformats.org/drawingml/2006/table">
            <a:tbl>
              <a:tblPr/>
              <a:tblGrid>
                <a:gridCol w="3189240"/>
                <a:gridCol w="1211040"/>
                <a:gridCol w="1478160"/>
                <a:gridCol w="1238040"/>
                <a:gridCol w="1435320"/>
              </a:tblGrid>
              <a:tr h="43812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йменування вит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5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4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а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а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25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195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124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зи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частини та поточний ремонт автотранспор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атна продукц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ергозберігаючи технології ( платні вікна  в палатах хвори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блі медич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'який інвентар для хвор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Аналіз співпраці з  благодійним фондом "Медицина"                    за 2014 - 2015р., тис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763560"/>
          <a:ext cx="9144000" cy="841320"/>
        </p:xfrm>
        <a:graphic>
          <a:graphicData uri="http://schemas.openxmlformats.org/drawingml/2006/table">
            <a:tbl>
              <a:tblPr/>
              <a:tblGrid>
                <a:gridCol w="4349880"/>
                <a:gridCol w="1225440"/>
                <a:gridCol w="1355760"/>
                <a:gridCol w="874800"/>
                <a:gridCol w="1338120"/>
              </a:tblGrid>
              <a:tr h="28404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йменування вит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5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4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8000" y="1382760"/>
          <a:ext cx="9036000" cy="4938840"/>
        </p:xfrm>
        <a:graphic>
          <a:graphicData uri="http://schemas.openxmlformats.org/drawingml/2006/table">
            <a:tbl>
              <a:tblPr/>
              <a:tblGrid>
                <a:gridCol w="4253040"/>
                <a:gridCol w="1218960"/>
                <a:gridCol w="1297080"/>
                <a:gridCol w="934920"/>
                <a:gridCol w="1332000"/>
              </a:tblGrid>
              <a:tr h="59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и  для господарської діяль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каменти та перев'язувальні засо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42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и харчування для хвор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ічне обслуговування та поточний ремонт медичного та технологічного обладнання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чний ремонт  відділень та поліклінік лікар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уги звя'зк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бання медичного обладн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арійне відновлення та реконструкція будів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Сплачено податків і зборів </a:t>
            </a:r>
            <a:br>
              <a:rPr sz="3200"/>
            </a:b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протягом 2015 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619280"/>
          <a:ext cx="8713800" cy="5241960"/>
        </p:xfrm>
        <a:graphic>
          <a:graphicData uri="http://schemas.openxmlformats.org/drawingml/2006/table">
            <a:tbl>
              <a:tblPr/>
              <a:tblGrid>
                <a:gridCol w="5313240"/>
                <a:gridCol w="1700280"/>
                <a:gridCol w="17002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ума, тис.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ума, тис.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соціальний внес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4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на доходи фізичних осі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0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йськовий збі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внески, 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на додану варт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мельний пода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використання во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1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ендна плата 70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на розрахунковий рахунок управління комунальної власност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80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108000" y="27000"/>
            <a:ext cx="23032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3840" y="-360"/>
            <a:ext cx="8389800" cy="14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  <a:ea typeface="Arial"/>
              </a:rPr>
              <a:t>Інформація про власні надходження, </a:t>
            </a:r>
            <a:br>
              <a:rPr sz="2800"/>
            </a:br>
            <a:r>
              <a:rPr b="1" lang="uk-UA" sz="2800" spc="-1" strike="noStrike">
                <a:solidFill>
                  <a:srgbClr val="ffff00"/>
                </a:solidFill>
                <a:latin typeface="Arial"/>
                <a:ea typeface="Arial"/>
              </a:rPr>
              <a:t>які спрямовані на покриття недостатньої </a:t>
            </a:r>
            <a:br>
              <a:rPr sz="2800"/>
            </a:br>
            <a:r>
              <a:rPr b="1" lang="uk-UA" sz="2800" spc="-1" strike="noStrike">
                <a:solidFill>
                  <a:srgbClr val="ffff00"/>
                </a:solidFill>
                <a:latin typeface="Arial"/>
                <a:ea typeface="Arial"/>
              </a:rPr>
              <a:t>частини бюджетного фінансування, тис. г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8000" y="1444680"/>
          <a:ext cx="9036000" cy="4686120"/>
        </p:xfrm>
        <a:graphic>
          <a:graphicData uri="http://schemas.openxmlformats.org/drawingml/2006/table">
            <a:tbl>
              <a:tblPr/>
              <a:tblGrid>
                <a:gridCol w="718920"/>
                <a:gridCol w="4753080"/>
                <a:gridCol w="1584360"/>
                <a:gridCol w="1979640"/>
              </a:tblGrid>
              <a:tr h="1122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ума, тис.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 р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ума, тис.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841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дходження від надання платних послу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9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тні медичні послуги згідно законодавств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5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1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орендної пла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73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ендна плата 30% (на розрахунковий рахунок лікарні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шкодування комунальних послу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58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38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1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               </a:t>
            </a: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Кадрове забезпечення лікар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1268280"/>
          <a:ext cx="8785440" cy="4846680"/>
        </p:xfrm>
        <a:graphic>
          <a:graphicData uri="http://schemas.openxmlformats.org/drawingml/2006/table">
            <a:tbl>
              <a:tblPr/>
              <a:tblGrid>
                <a:gridCol w="4321440"/>
                <a:gridCol w="2232000"/>
                <a:gridCol w="22320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атні пос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5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працююч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оловіків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/1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інок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86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2/8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валідів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/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нсіонерів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1/2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лодих спеціаліст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ікарі-інте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+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інші ЦР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+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інші ЦР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02" name="Рисунок 5" descr=""/>
          <p:cNvPicPr/>
          <p:nvPr/>
        </p:nvPicPr>
        <p:blipFill>
          <a:blip r:embed="rId1"/>
          <a:stretch/>
        </p:blipFill>
        <p:spPr>
          <a:xfrm>
            <a:off x="222120" y="115920"/>
            <a:ext cx="1973520" cy="115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  </a:t>
            </a: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Кадрове забезпечення лікар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4840" y="2060640"/>
          <a:ext cx="8785080" cy="3849480"/>
        </p:xfrm>
        <a:graphic>
          <a:graphicData uri="http://schemas.openxmlformats.org/drawingml/2006/table">
            <a:tbl>
              <a:tblPr/>
              <a:tblGrid>
                <a:gridCol w="4968720"/>
                <a:gridCol w="1943280"/>
                <a:gridCol w="18730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йнято на робо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/ 8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/ 8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вільнено з роботи за власним бажанн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/ 11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/ 12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городження грамотами лікарн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/ 5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/ 4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8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городження грамотами вищестоящих уст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/ 3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/ 1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06" name="Рисунок 6" descr=""/>
          <p:cNvPicPr/>
          <p:nvPr/>
        </p:nvPicPr>
        <p:blipFill>
          <a:blip r:embed="rId1"/>
          <a:stretch/>
        </p:blipFill>
        <p:spPr>
          <a:xfrm>
            <a:off x="222120" y="115920"/>
            <a:ext cx="1973520" cy="115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</a:t>
            </a: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Кадрове забезпечення лікар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1268280"/>
          <a:ext cx="8785440" cy="4389480"/>
        </p:xfrm>
        <a:graphic>
          <a:graphicData uri="http://schemas.openxmlformats.org/drawingml/2006/table">
            <a:tbl>
              <a:tblPr/>
              <a:tblGrid>
                <a:gridCol w="4614840"/>
                <a:gridCol w="2129040"/>
                <a:gridCol w="2041560"/>
              </a:tblGrid>
              <a:tr h="820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длягало атестац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ліка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медичні сест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тестова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гальна атестованіс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4/7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ікарі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/8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чні сест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/77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222120" y="115920"/>
            <a:ext cx="1973520" cy="115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40" y="69192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66"/>
                </a:solidFill>
                <a:latin typeface="Arial"/>
                <a:ea typeface="Arial"/>
              </a:rPr>
              <a:t>  </a:t>
            </a:r>
            <a:r>
              <a:rPr b="1" lang="uk-UA" sz="3200" spc="-1" strike="noStrike">
                <a:solidFill>
                  <a:srgbClr val="66ff66"/>
                </a:solidFill>
                <a:latin typeface="Arial"/>
                <a:ea typeface="Arial"/>
              </a:rPr>
              <a:t>Демографічні  показ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628640"/>
          <a:ext cx="8713800" cy="4680000"/>
        </p:xfrm>
        <a:graphic>
          <a:graphicData uri="http://schemas.openxmlformats.org/drawingml/2006/table">
            <a:tbl>
              <a:tblPr/>
              <a:tblGrid>
                <a:gridCol w="4752720"/>
                <a:gridCol w="1513080"/>
                <a:gridCol w="1658880"/>
                <a:gridCol w="7891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3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роджуваність по Комсомольському райо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ертність по Комсомольському райо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родний приріст насе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гальна захворюва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винна захворюва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6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ельність насе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8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5" descr="Фото Качалка &quot;Приключение&quot; арт. 722300"/>
          <p:cNvPicPr/>
          <p:nvPr/>
        </p:nvPicPr>
        <p:blipFill>
          <a:blip r:embed="rId1"/>
          <a:stretch/>
        </p:blipFill>
        <p:spPr>
          <a:xfrm>
            <a:off x="250920" y="115920"/>
            <a:ext cx="1657080" cy="144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375871"/>
          <p:cNvPicPr/>
          <p:nvPr/>
        </p:nvPicPr>
        <p:blipFill>
          <a:blip r:embed="rId2"/>
          <a:stretch/>
        </p:blipFill>
        <p:spPr>
          <a:xfrm>
            <a:off x="7596360" y="58680"/>
            <a:ext cx="1223640" cy="1498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тенсивність відвідування дорослих         поліклінік, на 10 тис.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1052640"/>
          <a:ext cx="8569080" cy="2195280"/>
        </p:xfrm>
        <a:graphic>
          <a:graphicData uri="http://schemas.openxmlformats.org/drawingml/2006/table">
            <a:tbl>
              <a:tblPr/>
              <a:tblGrid>
                <a:gridCol w="826920"/>
                <a:gridCol w="3727440"/>
                <a:gridCol w="1782720"/>
                <a:gridCol w="1440000"/>
                <a:gridCol w="792000"/>
              </a:tblGrid>
              <a:tr h="73188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з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труктурні підрозд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ліклініка 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ліклініка №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7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ліклініка №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іноча консульта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9" name="Подзаголовок 2"/>
          <p:cNvSpPr/>
          <p:nvPr/>
        </p:nvSpPr>
        <p:spPr>
          <a:xfrm>
            <a:off x="108000" y="328464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92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тенсивність відвідування дитячих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оліклінік, на 10 тис. дит.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4437000"/>
          <a:ext cx="8642160" cy="1828800"/>
        </p:xfrm>
        <a:graphic>
          <a:graphicData uri="http://schemas.openxmlformats.org/drawingml/2006/table">
            <a:tbl>
              <a:tblPr/>
              <a:tblGrid>
                <a:gridCol w="834840"/>
                <a:gridCol w="3757680"/>
                <a:gridCol w="1744560"/>
                <a:gridCol w="1440000"/>
                <a:gridCol w="865080"/>
              </a:tblGrid>
              <a:tr h="73188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з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труктурні підрозд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итяча поліклініка 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итяча поліклініка №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4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итяча поліклініка №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7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108000" y="3284640"/>
            <a:ext cx="1635120" cy="108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08000" y="1413000"/>
            <a:ext cx="8867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1. Ремига Л.Т., головний лі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«Аналіз  діяльності лікарні за 2015 рік та пріоритетні напрямки роботи у 2016р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2. Додулев О.М., заст. головного лікаря з медичної част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«Діяльність та оцінка якості лікування хворих у стаціонарних відділенн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3. Пшенична С.В., заступник  головного лікаря з медичного обслуговування населен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«Аналіз наступності між поліклінікою та стаціонаром за результатами роботи 2015 рі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718920" cy="89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8211960" y="135000"/>
            <a:ext cx="760680" cy="896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"/>
          <p:cNvPicPr/>
          <p:nvPr/>
        </p:nvPicPr>
        <p:blipFill>
          <a:blip r:embed="rId3"/>
          <a:stretch/>
        </p:blipFill>
        <p:spPr>
          <a:xfrm>
            <a:off x="2503440" y="239760"/>
            <a:ext cx="40323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Показники  діяльності педіатричної служ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855720"/>
          <a:ext cx="8785440" cy="4564080"/>
        </p:xfrm>
        <a:graphic>
          <a:graphicData uri="http://schemas.openxmlformats.org/drawingml/2006/table">
            <a:tbl>
              <a:tblPr/>
              <a:tblGrid>
                <a:gridCol w="5184720"/>
                <a:gridCol w="1584360"/>
                <a:gridCol w="1417680"/>
                <a:gridCol w="598680"/>
              </a:tblGrid>
              <a:tr h="366120">
                <a:tc row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айменування 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хворюваність на 1000 дит.на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0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7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хворюваність новонародже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хворюваність дітей до 1 року жит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3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казник малюкової смертнос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,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ертвонароджува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еренатальна  смерт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гальна інвалід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9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ервинна інвалід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79280" y="5419800"/>
            <a:ext cx="1944720" cy="1457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-144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Показники роботи стаціона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476280"/>
          <a:ext cx="9036000" cy="6134040"/>
        </p:xfrm>
        <a:graphic>
          <a:graphicData uri="http://schemas.openxmlformats.org/drawingml/2006/table">
            <a:tbl>
              <a:tblPr/>
              <a:tblGrid>
                <a:gridCol w="390600"/>
                <a:gridCol w="4649760"/>
                <a:gridCol w="1728720"/>
                <a:gridCol w="1655640"/>
                <a:gridCol w="611280"/>
              </a:tblGrid>
              <a:tr h="67068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казник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3188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еднє перебування на ліж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rowSpan="3"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ійшло хвор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7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планов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екстре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rowSpan="7"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тальність загальна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о доб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- 24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- 26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ід 1 до 3 д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- 2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- 19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ід 3 до 10 д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 - 38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 - 28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ід 10 до 20 д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 - 11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- 15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ід 20 до 30 д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- 3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- 8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ільше 30 д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- 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- 2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сляопераційна летальність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9840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тальність при гострій хірургічній допомозі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-1116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Показники роботи стаціона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765000"/>
          <a:ext cx="9144000" cy="5712120"/>
        </p:xfrm>
        <a:graphic>
          <a:graphicData uri="http://schemas.openxmlformats.org/drawingml/2006/table">
            <a:tbl>
              <a:tblPr/>
              <a:tblGrid>
                <a:gridCol w="539640"/>
                <a:gridCol w="4753080"/>
                <a:gridCol w="1727280"/>
                <a:gridCol w="1482480"/>
                <a:gridCol w="641520"/>
              </a:tblGrid>
              <a:tr h="73188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каз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 rowSpan="6"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ірургічна активність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,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ірургічне відді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,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вматологічне відді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фтальмологічне відді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,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,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інекологічне відді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гове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ді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,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31880">
                <a:tc rowSpan="2"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патологоанатомічних розтин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у числі в СМ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8552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итома вага (%) недоношених дітей, що вижили в пологовому стаціонарі серед усіх недоношених ді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,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91440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Склад пролікованих хворих у стаціонарі по нозоології  (дорослі віком 18 років і старш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125360"/>
          <a:ext cx="9144000" cy="5472360"/>
        </p:xfrm>
        <a:graphic>
          <a:graphicData uri="http://schemas.openxmlformats.org/drawingml/2006/table">
            <a:tbl>
              <a:tblPr/>
              <a:tblGrid>
                <a:gridCol w="539640"/>
                <a:gridCol w="2952720"/>
                <a:gridCol w="1224000"/>
                <a:gridCol w="1008000"/>
                <a:gridCol w="1008360"/>
                <a:gridCol w="934920"/>
                <a:gridCol w="1152360"/>
                <a:gridCol w="324000"/>
              </a:tblGrid>
              <a:tr h="915120">
                <a:tc rowSpan="2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 класів та окремих хвор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Ш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ідповідно до МКХ-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писано хвор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итома вага  по відділенням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rowSpan="4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гітність,  пологи та п/пологовий періо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00-О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ушерськ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інек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П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15120">
                <a:tc rowSpan="4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вороби системи кровообі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 00 - І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рді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р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ірур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40" name="Rectangle 2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Склад пролікованих хворих у стаціонарі по нозоології  (дорослі  віком 18 років  і  старш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58920" y="1481040"/>
          <a:ext cx="4826160" cy="4641840"/>
        </p:xfrm>
        <a:graphic>
          <a:graphicData uri="http://schemas.openxmlformats.org/drawingml/2006/table">
            <a:tbl>
              <a:tblPr/>
              <a:tblGrid>
                <a:gridCol w="1079640"/>
                <a:gridCol w="1077840"/>
                <a:gridCol w="644400"/>
                <a:gridCol w="486000"/>
                <a:gridCol w="485640"/>
                <a:gridCol w="527040"/>
                <a:gridCol w="525600"/>
              </a:tblGrid>
              <a:tr h="243720">
                <a:tc rowSpan="2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йменування  класів та окремих хворо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ф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повідно до МКХ-1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писано хвор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тома вага  по відділенням 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1080">
                <a:tc rowSpan="4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гітність,  пологи та п/пологовий періо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00-О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шерськ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інек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400">
                <a:tc rowSpan="4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роби системи кровообіг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00 - І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ді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р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рур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52120">
                <a:tc rowSpan="4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роби ендокринної системи, розладу харчування, порушення обміну речовин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докринологічн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рургічне 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інек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760">
                <a:tc rowSpan="4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и,  отруєння  та деякі інші наслідки дії зовнішні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ат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р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тальм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981000"/>
          <a:ext cx="9156600" cy="5726160"/>
        </p:xfrm>
        <a:graphic>
          <a:graphicData uri="http://schemas.openxmlformats.org/drawingml/2006/table">
            <a:tbl>
              <a:tblPr/>
              <a:tblGrid>
                <a:gridCol w="539640"/>
                <a:gridCol w="3600720"/>
                <a:gridCol w="1079280"/>
                <a:gridCol w="1009800"/>
                <a:gridCol w="934920"/>
                <a:gridCol w="936720"/>
                <a:gridCol w="720720"/>
                <a:gridCol w="334800"/>
              </a:tblGrid>
              <a:tr h="823320">
                <a:tc rowSpan="2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 класів та окремих хвор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Ш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КХ-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писано хвор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итома вага  по відділенням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524960">
                <a:tc rowSpan="4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вороби ендокринної системи, розладу харчу-вання, порушення обміну речовин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00-Е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ндокринологічн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ірургічне 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інек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20040">
                <a:tc rowSpan="4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вми,  отруєння  та деякі інші наслідки дії зовнішніх прич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00-T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вмат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р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фтальм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Показники роботи стаціона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8000" y="1938240"/>
          <a:ext cx="8928000" cy="4083120"/>
        </p:xfrm>
        <a:graphic>
          <a:graphicData uri="http://schemas.openxmlformats.org/drawingml/2006/table">
            <a:tbl>
              <a:tblPr/>
              <a:tblGrid>
                <a:gridCol w="936720"/>
                <a:gridCol w="4390920"/>
                <a:gridCol w="1368360"/>
                <a:gridCol w="1584360"/>
                <a:gridCol w="647640"/>
              </a:tblGrid>
              <a:tr h="816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9680">
                <a:tc row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ліковано хворих всь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ШД    %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звернення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78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вторних гос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повторних госпіталізаці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5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зходження діагнозів між поліклініками і стаціона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179280" y="100080"/>
            <a:ext cx="2160720" cy="162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-27000" y="50760"/>
            <a:ext cx="914400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Показники хірургічної діяльності стаціон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23840" y="1444680"/>
          <a:ext cx="8993160" cy="5432400"/>
        </p:xfrm>
        <a:graphic>
          <a:graphicData uri="http://schemas.openxmlformats.org/drawingml/2006/table">
            <a:tbl>
              <a:tblPr/>
              <a:tblGrid>
                <a:gridCol w="560520"/>
                <a:gridCol w="5327640"/>
                <a:gridCol w="1224000"/>
                <a:gridCol w="1296720"/>
                <a:gridCol w="584280"/>
              </a:tblGrid>
              <a:tr h="73188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976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ліковано хворих у відділеннях хірургічного профіл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6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сляопераційні ускладнення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91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мерло хворих після операції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060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сляопераційна летальність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060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ірургічна активність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,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3188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сляопераційна летальність при термінових станах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9520">
                <a:tc rowSpan="2"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тальність – до доби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 3х діб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57" name="Рисунок 6" descr=""/>
          <p:cNvPicPr/>
          <p:nvPr/>
        </p:nvPicPr>
        <p:blipFill>
          <a:blip r:embed="rId1"/>
          <a:stretch/>
        </p:blipFill>
        <p:spPr>
          <a:xfrm>
            <a:off x="108000" y="14400"/>
            <a:ext cx="1855800" cy="1393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 rot="21058800">
            <a:off x="388440" y="2595600"/>
            <a:ext cx="868356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ДЯКУЮ</a:t>
            </a:r>
            <a:br>
              <a:rPr sz="6000"/>
            </a:b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   ЗА</a:t>
            </a:r>
            <a:br>
              <a:rPr sz="6000"/>
            </a:b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  УВАГУ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4. Панченко Л.М., заст. головного лікаря з педіат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«Аналіз основних рейтингових показників стану  здоровя дітей за результатами профілактичних оглядів та диспансеризації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5.Мартюк Л.В., заступник головного лікаря з організаційно – аналітичної та кадрової  робо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Інформація про виконання рішення   підсумкової  медичної ради за 2014р. та приоритетні завдання на 2015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06520" y="3429000"/>
            <a:ext cx="836748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71640" y="4802040"/>
            <a:ext cx="7561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98320" y="1413000"/>
            <a:ext cx="79948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95400" indent="-954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08000" y="135000"/>
            <a:ext cx="718920" cy="89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8211960" y="135000"/>
            <a:ext cx="760680" cy="8967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539640" y="1892160"/>
            <a:ext cx="8334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d2d8a"/>
                </a:solidFill>
                <a:latin typeface="Arial Black"/>
              </a:rPr>
              <a:t> </a:t>
            </a:r>
            <a:r>
              <a:rPr b="1" lang="uk-UA" sz="4000" spc="-1" strike="noStrike">
                <a:solidFill>
                  <a:srgbClr val="2d2d8a"/>
                </a:solidFill>
                <a:latin typeface="Arial Black"/>
              </a:rPr>
              <a:t>«Аналіз  діяльності лікарні за 2015 рік та пріоритетні напрямки роботи у 2016р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d2d8a"/>
                </a:solidFill>
                <a:latin typeface="Arial Black"/>
              </a:rPr>
              <a:t>          </a:t>
            </a:r>
            <a:r>
              <a:rPr b="1" lang="uk-UA" sz="2800" spc="-1" strike="noStrike">
                <a:solidFill>
                  <a:srgbClr val="2d2d8a"/>
                </a:solidFill>
                <a:latin typeface="Arial Black"/>
              </a:rPr>
              <a:t>Ремига Л.Т., головний лік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0" descr=""/>
          <p:cNvPicPr/>
          <p:nvPr/>
        </p:nvPicPr>
        <p:blipFill>
          <a:blip r:embed="rId1"/>
          <a:stretch/>
        </p:blipFill>
        <p:spPr>
          <a:xfrm>
            <a:off x="457200" y="257040"/>
            <a:ext cx="2170080" cy="1219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  <a:ea typeface="Arial"/>
              </a:rPr>
              <a:t>Бюджетне  фінанс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Диаграмма 5"/>
          <p:cNvGraphicFramePr/>
          <p:nvPr/>
        </p:nvGraphicFramePr>
        <p:xfrm>
          <a:off x="465120" y="1595520"/>
          <a:ext cx="8094600" cy="5387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7" name="Диаграмма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" y="1595520"/>
                    <a:ext cx="8094600" cy="538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2212920" cy="1325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720" y="274320"/>
            <a:ext cx="823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uk-UA" sz="4400" spc="-1" strike="noStrike">
                <a:solidFill>
                  <a:srgbClr val="ff0000"/>
                </a:solidFill>
                <a:latin typeface="Arial"/>
                <a:ea typeface="Arial"/>
              </a:rPr>
              <a:t>Фінансування  на 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Arial"/>
                <a:ea typeface="Arial"/>
              </a:rPr>
              <a:t>          1  мешканця, грн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Диаграмма 4"/>
          <p:cNvGraphicFramePr/>
          <p:nvPr/>
        </p:nvGraphicFramePr>
        <p:xfrm>
          <a:off x="407880" y="1628640"/>
          <a:ext cx="8399520" cy="5170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7880" y="1628640"/>
                    <a:ext cx="839952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Бюджетне фінансове  забезпеченн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від  потреби, тис. гр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9280" y="1413000"/>
          <a:ext cx="8785440" cy="491004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1512720"/>
                <a:gridCol w="1872000"/>
                <a:gridCol w="17287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озрахункова потре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безепе-чення, аб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безепе-чення, %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096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камен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 витратні матері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9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4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28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160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каменти для пільгових категорій громадя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4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980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укти харчув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37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2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9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1584360" cy="863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08000" y="135000"/>
            <a:ext cx="885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а  бюджетного фінансування 2014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-1440" y="1023840"/>
          <a:ext cx="913104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1023840"/>
                    <a:ext cx="913104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Box 2"/>
          <p:cNvSpPr/>
          <p:nvPr/>
        </p:nvSpPr>
        <p:spPr>
          <a:xfrm>
            <a:off x="5724360" y="148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08000" y="135000"/>
            <a:ext cx="885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а  бюджетного фінансування 2015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6480" y="1095480"/>
          <a:ext cx="9059760" cy="57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1095480"/>
                    <a:ext cx="9059760" cy="57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Box 2"/>
          <p:cNvSpPr/>
          <p:nvPr/>
        </p:nvSpPr>
        <p:spPr>
          <a:xfrm>
            <a:off x="5724360" y="148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2:38:08Z</dcterms:created>
  <dc:creator>АС</dc:creator>
  <dc:description/>
  <dc:language>en-US</dc:language>
  <cp:lastModifiedBy>333</cp:lastModifiedBy>
  <dcterms:modified xsi:type="dcterms:W3CDTF">2016-03-04T11:23:53Z</dcterms:modified>
  <cp:revision>268</cp:revision>
  <dc:subject/>
  <dc:title>ДОПОВІДЬ НА ПІДСУМКОВУ КОЛЕГІЮ УПРАВЛІННЯ ОХОРОНИ ЗДОРОВ`Я ОБЛДЕРЖАДМІНІСТРАЦІЇ</dc:title>
</cp:coreProperties>
</file>